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A7C-476B-49C0-AC46-BA1D4E2B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3F4-6DB4-4F96-B5CF-347A8454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627-9537-428E-8A88-139370DB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42E-ECC0-44B2-8573-D3C0D7D3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07FB-E092-44CF-82B8-3269FDAF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637-7312-4161-BF39-3F42FEB4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5D3A-3389-47C0-B4B1-D8E6A52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55ED-EAE8-437F-A44D-9FFE4225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B10-994D-4D4E-A080-6A77BE8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EC6-B722-48B8-ACCD-24B2C24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8A0-F2AF-4EC2-82D1-12DBAEE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2B3-B636-4BA8-B5BA-E06928F7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5CD9-61C4-42B2-9A27-A766845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424-13BD-46EE-912C-BEF7198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D74E-6CD4-4328-BC6B-E3DDF43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B9EC-2792-4FE8-9FD2-9F9B0299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A982-70CE-4EB2-8F80-4C47A798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1C2E-1198-456C-A3A9-0A57D50F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4652-0E3B-41B6-AB41-9183D778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2562-DFF0-4D38-8E17-745975C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2F0D-38C8-4A8C-ACC9-CEDEBB99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C69B-352D-48E1-9CCC-1020AED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9D8-17A0-44C9-809F-3DF2D74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DC4E-D7B7-455F-A681-C8940625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49B5-3907-44CF-9D84-3964A33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7748-A3C7-4226-B03F-29F2E58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61EF-7426-4C40-87F1-A5F1F9F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2D96-5427-4DB8-80B4-5B98FC2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A5E0-B3BE-42EA-9D2D-B09CC545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76C1-8795-40E2-82C3-DE1C3F01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A13B-5C3F-4D46-9DD4-D7E08D2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FF2A-5402-4BC8-A567-8EA84C7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7319-2F42-4C8A-8E59-66246E6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51A-CB22-4099-B83B-3B684DC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9129-1DB7-4B0E-89C9-4CEB180D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FD0C-94C8-4B2E-830A-55A1F84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AFD3-6C28-46C8-9304-D0F17B2B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F95E-2F7C-4CB3-BD30-BFFC91B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68C5-CA90-4643-9B64-957A562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18EE-142E-424A-84DE-FE8487B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243F-F43B-411A-A169-512C8B9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E688-FD50-401F-ADAE-00302CC1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A63B-2EFA-43B3-BE1E-AD874ED6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1BAF-6223-486E-8679-DFD7313F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255-FAF6-431C-B882-FAF9D2E4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66DC-830D-4A7D-991F-069BAB2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4FE2-8098-4D5F-AFDF-B6C7E73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82C9-8173-41D5-8E49-9F18E4A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63F0-32B8-4EFA-8512-86CD9423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D0BB-8FD1-4CC3-B3E8-69C9868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E65C-99EF-48FC-B7C9-9F44934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847C3-C1F0-4315-971C-33AF5CF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6053-B026-408A-9AFF-6AEA454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40EA7-0B39-4791-8C52-F12554C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6CCF-199D-4733-96A6-39465FAB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789-F3D7-4760-9D27-FE1289AE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76E6-F4B5-47F0-88D8-9C079A0F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EDA-1442-4783-AED0-3803445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1A0-4540-465D-BE2D-DC12A04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566-7833-4EC2-A5A7-D541598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C9F-5666-4110-A37F-0E58A836F7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114-B1D4-4FAF-A889-8DB6629CC0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2884-F7C7-4C65-B9E5-7C09AD0446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BD05-A9BF-42D4-9CED-CD6389DF2C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0DFB-1CBA-40B0-9640-F9F372491D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7" descr=""/>
          <p:cNvPicPr/>
          <p:nvPr/>
        </p:nvPicPr>
        <p:blipFill>
          <a:blip r:embed="rId1"/>
          <a:stretch/>
        </p:blipFill>
        <p:spPr>
          <a:xfrm>
            <a:off x="1432080" y="828720"/>
            <a:ext cx="7132320" cy="26208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8" descr=""/>
          <p:cNvPicPr/>
          <p:nvPr/>
        </p:nvPicPr>
        <p:blipFill>
          <a:blip r:embed="rId2"/>
          <a:stretch/>
        </p:blipFill>
        <p:spPr>
          <a:xfrm>
            <a:off x="1743120" y="3322800"/>
            <a:ext cx="6437160" cy="140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4071960" y="492912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това Светла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«Солнечн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1285920" y="714240"/>
            <a:ext cx="6840360" cy="50940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тся незаряженными част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2071800" y="233352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2071800" y="32781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2643120" y="2143080"/>
            <a:ext cx="500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й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4"/>
          <p:cNvSpPr/>
          <p:nvPr/>
        </p:nvSpPr>
        <p:spPr>
          <a:xfrm>
            <a:off x="2098800" y="42861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332000" y="792000"/>
            <a:ext cx="6840360" cy="1035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 в твердых металлах представляет собой 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2286000" y="2008080"/>
            <a:ext cx="631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тречное движение ионов и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тречное движение протонов и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е движение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прот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2409840" y="271152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2"/>
          <p:cNvSpPr/>
          <p:nvPr/>
        </p:nvSpPr>
        <p:spPr>
          <a:xfrm>
            <a:off x="2428920" y="39672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2422440" y="3286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заряд проходит через спираль электрической лампы за 10 минут при силе тока 0,5 (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2286000" y="2008080"/>
            <a:ext cx="63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332000" y="792000"/>
            <a:ext cx="6840360" cy="1269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пределить сопротивление спирали лампы от карманного фонаря, если при напряжении 3,5 В сила тока в ней 0,28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,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1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ихромовый проводник длиной 5м и площадью поперечного сечения 0,75 мм2 обладает сопротив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,3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3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0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28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Какова мощность электрического тока в электрической плите при напряжении 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и силе тока 2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0 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1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к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785960" y="928800"/>
            <a:ext cx="464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99920" y="57168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Источники: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793908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Кабардин О.Ф., Кабардина С.И, Орлов В.А. Контрольные и проверочные работы по физике 7-11 классы. Методическое пособие для учителей – М.: Издательский дом «Дрофа», 199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Лукашик В.И. Сборник задач по физике: Учеб.пособие для учащихся 7 – 8 кл – М.: Просвещение, 1994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Сборник задач по физике 7-9 классы Издательство «Экзамен» Москва 201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Тесты по физике. К учебнику А.В. Перышкина «Физика 7 класс»  (М.; Дроф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571760" y="1444680"/>
            <a:ext cx="578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СТРУКЦ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по теме:  «Электрические явления». Данный тест может быть  использован  при закреплении и контроле знаний по физике в 8 класс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ащимся предлагается ответить на вопрос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ответ верный, то при нажатии на ответ, надпись окрашивается в зеленый цвет, в противном случае надпись окрашивается в красный цвет или исче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332000" y="79200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ела взаимно отталкиваются, то это значит, что они заряжены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2286000" y="2008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3333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357200" y="792000"/>
            <a:ext cx="6840720" cy="1035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заряженные тела взаимно притягиваются, значит они заряжены 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286000" y="2008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1332000" y="792000"/>
            <a:ext cx="6840360" cy="111744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порядоченным движением каких частиц создается электрический ток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ал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2286000" y="2008080"/>
            <a:ext cx="59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х и отрица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314360" y="739800"/>
            <a:ext cx="6840720" cy="56988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тся отрицательно заряженными част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857240" y="17859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3"/>
          <p:cNvSpPr/>
          <p:nvPr/>
        </p:nvSpPr>
        <p:spPr>
          <a:xfrm>
            <a:off x="1571760" y="16430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4"/>
          <p:cNvSpPr/>
          <p:nvPr/>
        </p:nvSpPr>
        <p:spPr>
          <a:xfrm>
            <a:off x="15717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7"/>
          <p:cNvSpPr/>
          <p:nvPr/>
        </p:nvSpPr>
        <p:spPr>
          <a:xfrm>
            <a:off x="1577880" y="292428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2050920" y="1542960"/>
            <a:ext cx="652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й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1"/>
          <p:cNvSpPr/>
          <p:nvPr/>
        </p:nvSpPr>
        <p:spPr>
          <a:xfrm>
            <a:off x="1571760" y="2071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f5e16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285920" y="714240"/>
            <a:ext cx="6840360" cy="50940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единица измерения силы 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4"/>
          <p:cNvSpPr/>
          <p:nvPr/>
        </p:nvSpPr>
        <p:spPr>
          <a:xfrm>
            <a:off x="20001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5"/>
          <p:cNvSpPr/>
          <p:nvPr/>
        </p:nvSpPr>
        <p:spPr>
          <a:xfrm>
            <a:off x="2000160" y="30542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6"/>
          <p:cNvSpPr/>
          <p:nvPr/>
        </p:nvSpPr>
        <p:spPr>
          <a:xfrm>
            <a:off x="2021040" y="4267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2500200" y="2357280"/>
            <a:ext cx="500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т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4"/>
          <p:cNvSpPr/>
          <p:nvPr/>
        </p:nvSpPr>
        <p:spPr>
          <a:xfrm>
            <a:off x="2000160" y="35812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1203480" y="71748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единица измерения электрического сопроти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4"/>
          <p:cNvSpPr/>
          <p:nvPr/>
        </p:nvSpPr>
        <p:spPr>
          <a:xfrm>
            <a:off x="20001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5"/>
          <p:cNvSpPr/>
          <p:nvPr/>
        </p:nvSpPr>
        <p:spPr>
          <a:xfrm>
            <a:off x="2000160" y="30542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6"/>
          <p:cNvSpPr/>
          <p:nvPr/>
        </p:nvSpPr>
        <p:spPr>
          <a:xfrm>
            <a:off x="2021040" y="4267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2500200" y="2357280"/>
            <a:ext cx="500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т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4"/>
          <p:cNvSpPr/>
          <p:nvPr/>
        </p:nvSpPr>
        <p:spPr>
          <a:xfrm>
            <a:off x="2000160" y="35812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1285920" y="71424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ой формулой выражается закон Ома для участка ц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4"/>
          <p:cNvSpPr/>
          <p:nvPr/>
        </p:nvSpPr>
        <p:spPr>
          <a:xfrm>
            <a:off x="2000160" y="278928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5"/>
          <p:cNvSpPr/>
          <p:nvPr/>
        </p:nvSpPr>
        <p:spPr>
          <a:xfrm>
            <a:off x="1996920" y="3716280"/>
            <a:ext cx="28764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2643120" y="2143080"/>
            <a:ext cx="5000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=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4"/>
          <p:cNvSpPr/>
          <p:nvPr/>
        </p:nvSpPr>
        <p:spPr>
          <a:xfrm>
            <a:off x="2019240" y="479412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52:17Z</dcterms:created>
  <dc:creator>Платова С.А.</dc:creator>
  <dc:description/>
  <dc:language>en-US</dc:language>
  <cp:lastModifiedBy>Светлана Алексеевна</cp:lastModifiedBy>
  <dcterms:modified xsi:type="dcterms:W3CDTF">2025-10-27T07:17:11Z</dcterms:modified>
  <cp:revision>83</cp:revision>
  <dc:subject/>
  <dc:title>Слайд 1</dc:title>
</cp:coreProperties>
</file>